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DAF03-4E4F-40EF-87D3-6FD35B8F25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95F5-BEA8-4CF4-91FF-D385E151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C007-FB46-41E8-88EF-E7AA1BA5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F0CB-259C-4257-9F4E-B0F22ECF7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4EFB3-0763-4FE6-B5A9-62B06AF3D0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D2C3D-604B-48CF-A350-18CFC2AD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D5197-1C29-4B5D-ADB0-86E13E3C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2F2F7-7238-4C6D-BD00-4B841068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2EB7F-B130-4A6F-8CFF-2F74D8EE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41AB0-733E-4262-9D6F-7E39E47D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73F1F-D770-4D81-B19D-A2053C5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9973-5113-4897-8D7B-083E8B65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53E8A-E2D1-4744-B400-4EC2E6E3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68781-D2F1-4589-BFE5-77FE049C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12054-6061-4F8A-8FC9-435AD544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B206F-72F9-440D-AD2A-46E1B31B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B2624-2EB7-4E4E-9D12-EA2D756589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FF9-014F-4D2D-BF94-8921FDBFE6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C82A-9426-4ACA-8538-102D338A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90CE-7F61-4383-835A-8782A081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7997-9D19-4E4B-BECE-9BA137DF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0CA-8295-4FE7-B339-F14B649B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A5EF-7D5C-4AB0-B843-37D80E89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AD7E-1744-4E35-8BB0-0D623F20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49A2-2EBB-4C76-A0D6-95DCA761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3AED-C20A-4F5D-BAA0-5852B2CA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6894-7B6E-4E27-82F6-AB6D88F6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E5F0-7CD4-4FAB-8C2D-6AE70A10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9020-E8F6-4C9B-BA20-FD8E029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DA48-55A9-4A16-83EB-7D79AFA3D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A7034-B031-4602-AC90-D0304F135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72B47-D418-4127-9835-6F160DA3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C5594-8464-4051-A682-65BABBE4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FB17-BFE2-4596-883D-7F93816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09E43-7DC3-49FA-9534-A0D886EB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7DBF5-FE96-462B-A654-15C626B9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9AB75-B74A-4BBE-B139-84199AEE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50F3B-44CF-4105-B940-0D0091DD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D2510-4741-4E29-AECC-9DA99D76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5DD26-3407-4F7A-9332-28BFF8F7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3B0D9-834A-4425-9677-ABCECB88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BCE1A-7126-4D29-8DAD-9B651FE8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1AC08-2D66-4CE3-8DAB-DEF85F0EEE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850CE-1FA0-4F84-94C5-BEEF5561B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BF9F-C253-4B5A-ABAF-6E4A24C5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1AB88-9994-4960-AE58-12B732A8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E3D4E-C219-4AF7-AF18-9329937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3C577-AE10-4FE3-8C24-611718ED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2A6CF5-0A2B-4299-A8E2-3309D7F9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D82CF-CB9F-48BD-A5C5-5B78CBB7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64BD6-C019-4CF5-BA6E-C969B27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29385A-B795-4A0C-A408-74A7F4F3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B5593-85ED-466C-A629-399E5FB3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B52FE4-08DC-4854-B4F0-6F52BFBB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E882B-E25A-474D-A254-A8F404C1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28AE-ED25-486A-8CC6-A1B001E5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FEFC3-3200-47AC-8DB4-AA95D0CDA1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FF0D1-DC95-46E4-A982-1E36587D4B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8ADE6-9E2C-4204-9F82-4768AE32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2BCC-844F-446A-BF93-FD3AAE3B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FB86-874C-4A1E-A419-6F1B3A23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06D4-289F-467B-9B92-ABFCF82A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28F5-FD83-44A2-B03A-F06F1A95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9846-2428-4FCA-B0EC-6350BAFE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F6FC-3BF6-4E50-BF94-5B647C2E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DC90B-8623-4C9F-BD3F-9CC5DC3F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B2D4-4F87-4D75-BF56-A0D185FD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48AF8-9B46-44FF-B525-C2ED4F4E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48939-61C2-4BE9-8A7B-67058F3D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AE07-FD1F-4E1B-95E3-ABCC8B788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8FBE0-E208-4C0B-B573-17FA34CEBE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700B0-8339-454B-9857-90A2CE4F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BF2EF-0AD9-4633-B628-377A2FC0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8531F-3038-4860-BFEC-FBE0161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E4C88-CAEC-41DE-BAE8-EB78CDA6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035C5-91E3-47BD-AEBE-35DCA9A1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553EF-49D8-47FB-A4FB-5CD92D86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2691-47D5-4D65-9591-78BE6EA3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C9D19-B54D-4FD8-9A42-4CC59768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41FEB-FF5D-4188-851E-DC33330A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DE6D1-501A-497C-B071-D8AA898A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A5E84-B4A2-43EE-9A39-589D30B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747EF-F1B6-4770-9599-77502FF92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41FE05-4238-422D-8403-080F8146C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2B5D73-4CC0-4A17-BF5A-84AAA504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82091-B4F1-42F3-AB29-24A29EA5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CCEE9-6808-428F-A193-34A1E206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2525A8-BD7B-43AF-9C1E-69E2046E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8D23-352B-437A-8AF7-EA0D2898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FDD02A-BCEA-4827-99D1-E6D4462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EAD16F-68E3-44DB-91AF-8DE620E0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D584D-6E37-4962-BF3F-C87D2127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C87C98-7BBC-4F09-899C-AEFAFD83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DDF825-5E91-4B5C-9587-E8CFA3A4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F5AF48-0A86-44D9-97A6-42D9FA80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E58A43-FAED-4A32-ACE4-AC256C815E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662F-669E-450E-9064-5A2CC012C7FB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Afbeelding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" name="Afbeelding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6"/>
          <p:cNvSpPr/>
          <p:nvPr/>
        </p:nvSpPr>
        <p:spPr>
          <a:xfrm>
            <a:off x="4678200" y="0"/>
            <a:ext cx="7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0F77-128F-43D9-9FE6-62F3F0A5B532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D16F-6A80-4F57-9D28-CC0ABE7D7659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4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"/>
          <p:cNvPicPr/>
          <p:nvPr/>
        </p:nvPicPr>
        <p:blipFill>
          <a:blip r:embed="rId3"/>
          <a:stretch/>
        </p:blipFill>
        <p:spPr>
          <a:xfrm>
            <a:off x="2411280" y="58680"/>
            <a:ext cx="792360" cy="62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4"/>
          <a:stretch/>
        </p:blipFill>
        <p:spPr>
          <a:xfrm>
            <a:off x="324000" y="57240"/>
            <a:ext cx="792000" cy="63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7462-86C9-4751-81AF-BE9552D7871A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89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3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4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0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258-A91C-47D2-B21D-2D604C8AFA90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3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D361-34E1-46A9-BB95-BA84CB103C53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8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7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88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7460-C979-46DE-A232-3F615408D4B1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330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34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3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638D-29F2-428A-9A74-7B79206669BB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mailto:Arne.theil@ptno.nl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5905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Afbeelding 5" descr="vts.jpg"/>
          <p:cNvPicPr/>
          <p:nvPr/>
        </p:nvPicPr>
        <p:blipFill>
          <a:blip r:embed="rId1"/>
          <a:stretch/>
        </p:blipFill>
        <p:spPr>
          <a:xfrm>
            <a:off x="5076720" y="2637000"/>
            <a:ext cx="3275280" cy="2016000"/>
          </a:xfrm>
          <a:prstGeom prst="rect">
            <a:avLst/>
          </a:prstGeom>
          <a:ln w="0">
            <a:noFill/>
          </a:ln>
        </p:spPr>
      </p:pic>
      <p:pic>
        <p:nvPicPr>
          <p:cNvPr id="380" name="Afbeelding 6" descr="southamptonvts2.jpg"/>
          <p:cNvPicPr/>
          <p:nvPr/>
        </p:nvPicPr>
        <p:blipFill>
          <a:blip r:embed="rId2"/>
          <a:stretch/>
        </p:blipFill>
        <p:spPr>
          <a:xfrm>
            <a:off x="539640" y="4076640"/>
            <a:ext cx="4295880" cy="2333520"/>
          </a:xfrm>
          <a:prstGeom prst="rect">
            <a:avLst/>
          </a:prstGeom>
          <a:ln w="0">
            <a:noFill/>
          </a:ln>
        </p:spPr>
      </p:pic>
      <p:sp>
        <p:nvSpPr>
          <p:cNvPr id="381" name="Tekstvak 7"/>
          <p:cNvSpPr/>
          <p:nvPr/>
        </p:nvSpPr>
        <p:spPr>
          <a:xfrm>
            <a:off x="996480" y="242100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e Th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c9c9e"/>
                </a:solidFill>
                <a:uFillTx/>
                <a:latin typeface="Arial"/>
                <a:hlinkClick r:id="rId3"/>
              </a:rPr>
              <a:t>arne.theil@tn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1-88-8664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6440" y="1412640"/>
            <a:ext cx="82076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03280" y="3212640"/>
            <a:ext cx="6624720" cy="22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h lis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O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87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september 2010: IALA → TNO: ‘Can TNO upgrade CARPET v2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ebruari 2011: TNO → IALA: ‘Can IALA support the business case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januari 2012: TNO presentation during IALA subcommittee. Prior to this meeting, TNO has sent-out wish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xtensions must the new version of CARPET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development of the new version going to be finan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264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4816440" y="189000"/>
            <a:ext cx="1828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1042920" y="2276640"/>
            <a:ext cx="43344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6300720" y="3500280"/>
            <a:ext cx="432000" cy="4334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1835280" y="4797360"/>
            <a:ext cx="43308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3708360" y="2781360"/>
            <a:ext cx="43200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9"/>
          <p:cNvSpPr/>
          <p:nvPr/>
        </p:nvSpPr>
        <p:spPr>
          <a:xfrm>
            <a:off x="4572000" y="4581360"/>
            <a:ext cx="43164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sosceles Triangle 10"/>
          <p:cNvSpPr/>
          <p:nvPr/>
        </p:nvSpPr>
        <p:spPr>
          <a:xfrm>
            <a:off x="1763640" y="2637000"/>
            <a:ext cx="432000" cy="4316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sosceles Triangle 11"/>
          <p:cNvSpPr/>
          <p:nvPr/>
        </p:nvSpPr>
        <p:spPr>
          <a:xfrm>
            <a:off x="3851280" y="2924280"/>
            <a:ext cx="433440" cy="4334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635280" y="306864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443640" y="378936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7667640" y="1989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-Point Star 19"/>
          <p:cNvSpPr/>
          <p:nvPr/>
        </p:nvSpPr>
        <p:spPr>
          <a:xfrm>
            <a:off x="5364000" y="213372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6" y="192221"/>
                </a:lnTo>
                <a:lnTo>
                  <a:pt x="503236" y="192219"/>
                </a:lnTo>
                <a:lnTo>
                  <a:pt x="347727" y="311017"/>
                </a:lnTo>
                <a:lnTo>
                  <a:pt x="407127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0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-Point Star 20"/>
          <p:cNvSpPr/>
          <p:nvPr/>
        </p:nvSpPr>
        <p:spPr>
          <a:xfrm>
            <a:off x="6156360" y="3645000"/>
            <a:ext cx="503280" cy="5047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-Point Star 21"/>
          <p:cNvSpPr/>
          <p:nvPr/>
        </p:nvSpPr>
        <p:spPr>
          <a:xfrm>
            <a:off x="5508720" y="544500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-Point Star 22"/>
          <p:cNvSpPr/>
          <p:nvPr/>
        </p:nvSpPr>
        <p:spPr>
          <a:xfrm>
            <a:off x="2484360" y="400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7">
                <a:moveTo>
                  <a:pt x="1" y="192219"/>
                </a:moveTo>
                <a:lnTo>
                  <a:pt x="192221" y="192220"/>
                </a:lnTo>
                <a:lnTo>
                  <a:pt x="251619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7" y="311016"/>
                </a:lnTo>
                <a:lnTo>
                  <a:pt x="407127" y="503235"/>
                </a:lnTo>
                <a:lnTo>
                  <a:pt x="251619" y="384436"/>
                </a:lnTo>
                <a:lnTo>
                  <a:pt x="96110" y="503235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5-Point Star 23"/>
          <p:cNvSpPr/>
          <p:nvPr/>
        </p:nvSpPr>
        <p:spPr>
          <a:xfrm>
            <a:off x="3492360" y="256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8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7" y="192221"/>
                </a:lnTo>
                <a:lnTo>
                  <a:pt x="503237" y="192219"/>
                </a:lnTo>
                <a:lnTo>
                  <a:pt x="347727" y="311017"/>
                </a:lnTo>
                <a:lnTo>
                  <a:pt x="407128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1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2152080" y="616572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greement as well as disagre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788000" y="260280"/>
            <a:ext cx="18000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95280" y="1628640"/>
          <a:ext cx="8280360" cy="462276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latest generation solid state coherent VTS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F/RF/pulslength/pulse compression ag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Doppler filter coefficients, non standard Doppler filt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Terma’s frequency 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ing tool, modelling of a radar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and other receiver characteristics (e.g. lin/log, limited number of b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tool’, command 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/fail verdict that relates to IAL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ide-lo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borne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61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426C-7418-4E46-9166-FB88925E06CB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1628640"/>
          <a:ext cx="8280360" cy="268308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sea clutter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xtensive specification of loss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velocity aver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NO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2199960"/>
            <a:ext cx="70581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of the latest generation solid state coherent VTS rad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: complex waveform (RF/PRF/pulse length agility), post-detection binary integration, extensive loss factor specification, (partially) encrypted settings files, feedback of OEMs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point-like target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dvanced modern GUI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F5DD-73AB-42A3-A4EF-A92CADFF2824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6337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2199960"/>
            <a:ext cx="8136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w CARPET-VTS will be able to assess the performance of the latest generation coherent VTS ra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the modernisation of CARPET, future steps, such as the analysis of radar networks can be taken mor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16mScenario7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5:11:03Z</dcterms:created>
  <dc:creator/>
  <dc:description/>
  <dc:language>en-US</dc:language>
  <cp:lastModifiedBy/>
  <dcterms:modified xsi:type="dcterms:W3CDTF">2013-09-15T11:57:33Z</dcterms:modified>
  <cp:revision>77</cp:revision>
  <dc:subject>Powerpoint Wizzard</dc:subject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M Bouman </vt:lpwstr>
  </property>
  <property fmtid="{D5CDD505-2E9C-101B-9397-08002B2CF9AE}" pid="3" name="Color">
    <vt:lpwstr>True</vt:lpwstr>
  </property>
  <property fmtid="{D5CDD505-2E9C-101B-9397-08002B2CF9AE}" pid="4" name="CreationBy">
    <vt:lpwstr>boumanm</vt:lpwstr>
  </property>
  <property fmtid="{D5CDD505-2E9C-101B-9397-08002B2CF9AE}" pid="5" name="CreationDate">
    <vt:lpwstr>10-1-2011 15:59:00</vt:lpwstr>
  </property>
  <property fmtid="{D5CDD505-2E9C-101B-9397-08002B2CF9AE}" pid="6" name="DateText">
    <vt:lpwstr>10 januari 2011</vt:lpwstr>
  </property>
  <property fmtid="{D5CDD505-2E9C-101B-9397-08002B2CF9AE}" pid="7" name="Department">
    <vt:lpwstr>5299</vt:lpwstr>
  </property>
  <property fmtid="{D5CDD505-2E9C-101B-9397-08002B2CF9AE}" pid="8" name="FavoriteLink1Image">
    <vt:lpwstr>TNOdummytijdsbalkbeeld001.jpg</vt:lpwstr>
  </property>
  <property fmtid="{D5CDD505-2E9C-101B-9397-08002B2CF9AE}" pid="9" name="FavoriteLink1Index">
    <vt:lpwstr>1</vt:lpwstr>
  </property>
  <property fmtid="{D5CDD505-2E9C-101B-9397-08002B2CF9AE}" pid="10" name="FavoriteLink2Image">
    <vt:lpwstr>TNOdummytijdsbalkbeeld002.jpg</vt:lpwstr>
  </property>
  <property fmtid="{D5CDD505-2E9C-101B-9397-08002B2CF9AE}" pid="11" name="FavoriteLink2Index">
    <vt:lpwstr>1</vt:lpwstr>
  </property>
  <property fmtid="{D5CDD505-2E9C-101B-9397-08002B2CF9AE}" pid="12" name="Grammar">
    <vt:lpwstr>1</vt:lpwstr>
  </property>
  <property fmtid="{D5CDD505-2E9C-101B-9397-08002B2CF9AE}" pid="13" name="PresentationDate">
    <vt:lpwstr>10-9-2013 13:44:43</vt:lpwstr>
  </property>
  <property fmtid="{D5CDD505-2E9C-101B-9397-08002B2CF9AE}" pid="14" name="ShowDate">
    <vt:lpwstr>True</vt:lpwstr>
  </property>
  <property fmtid="{D5CDD505-2E9C-101B-9397-08002B2CF9AE}" pid="15" name="ShowPages">
    <vt:lpwstr>True</vt:lpwstr>
  </property>
  <property fmtid="{D5CDD505-2E9C-101B-9397-08002B2CF9AE}" pid="16" name="SubTitle">
    <vt:lpwstr>Powerpoint Wizzard</vt:lpwstr>
  </property>
  <property fmtid="{D5CDD505-2E9C-101B-9397-08002B2CF9AE}" pid="17" name="Title">
    <vt:lpwstr>TNO Nieuwe huisstijl</vt:lpwstr>
  </property>
</Properties>
</file>